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CF1-5CEA-44D2-8094-B30571E7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046-8D69-4E3E-83F7-089A749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728-1773-49F3-8A88-5DE0E9EA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C80-12C1-46C3-8650-E3B02919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20F8-6456-4F8C-9AC9-790FBEAF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C99D-F3D1-495C-89E5-3DDD71A2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7256-CE91-460D-9E60-D154FC6B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678C-3CBE-4078-83DB-14A57786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9195-98A6-4B0F-9771-639F94B9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09CB-6E42-4FC0-B563-B4F70913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D1E1-9EEE-4618-972D-C580881D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8FD-88B3-4974-A600-864A6E25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5450-C8F9-4590-AB0B-E8E297A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76F-B9E0-428C-9A32-E690F093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182-6E65-441D-B4AD-934030A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D4E-DBA0-472B-AD6A-48D5CFB1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E1C8-481A-4CCB-BAE2-81F1076F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00CE-2E90-42B7-8795-D89CD046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0549-A360-437F-AEEB-0ED8BA1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0F21-8525-482B-93E3-3520BCC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A1E7-1C9D-4CDF-8857-F330ED6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9CCB-16BF-443D-B5B0-A81B9B18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F38-B855-460F-B83F-F4DBA678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F9BC-5239-4541-AFF3-34C34CF3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D498-1B56-453D-A190-3194331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10199-0382-4D97-A9D5-DF69152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F298-B168-4F6B-9034-AFEE2D3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1198-914E-40A9-AE77-B23B0E3B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CB12-7517-4B6A-9C01-12EF07D6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E35B-3927-4544-B87A-F5682106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552F-8E83-4BE2-ABE6-40C95108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3694-4640-4A59-B8AE-D147D58D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DD78-4C92-4662-ACCD-B39C4EB7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943-CB28-4306-9BEA-0823A62D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B4C4-E147-41BD-B3E2-B2A9092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BEFD-8FA7-443B-9270-7A2D7701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220F-28A0-45B2-B7E6-DFD90E6C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9C01-D576-40BD-BDE0-7DEE69F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2936-52E9-4A4A-85AF-70A303A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E343-6C09-42DE-A932-BE7B8089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BCE7-8953-4A6F-8325-0C8EB705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C399-4258-41E7-A031-78A43205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23D4-F5C8-4559-BAC3-A8828125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C484F-D695-43BC-B214-D0618970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1C5-F6F8-403C-94E0-62F89010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462E-E5E3-41C1-936E-EDC93AF4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AB15-1310-420A-BB9D-81E7418E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BC1C6-4970-446B-8888-B3257C56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7EE2-15EE-4BCD-9EB8-0FE5BF3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3A3CF-E4CA-4AB6-AD36-486C8BB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2514D-0C48-48E6-922A-0E890864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32082-C01C-4871-AFEE-3B38DF92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B4E3-68AD-479C-9836-6C498DA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9512-3420-447B-889B-F2BCCA6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88992-A4E1-4D11-A631-1C6469D4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153-6DA2-4432-929D-14192079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D0C2-D8FE-4B2B-94CC-D8B6D670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ED0F-4B04-47C4-94F0-043801F3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F5F7-0C42-4475-ACF7-4309F937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03E43-13AF-4A69-84C6-71ED161B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69208-A645-4EAF-9D35-81A320BB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2F71-43D9-4C29-86AD-F4A17C9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7C33D-F99E-4820-95F8-47F89BD9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E41F-AA9B-4EE4-A65B-95C59E9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6BED-BF78-4CA6-A699-17068F2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A8DB-CF8E-4413-90F3-F83CE3F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CD1-459F-49B0-B49A-DBC9FA27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9C7A6-EA01-4EDF-A89E-FE0F1682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B7DD3-FC87-4CB6-AA9E-572A2D85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AED8-E92C-49AB-8097-63E3B206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813-A93F-489F-BBE5-DA53AAA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058-1A21-4A30-BDF4-E1565A18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D063-6588-47B3-8C71-058A7B36FD9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31D-96CD-4825-88F3-29CE417891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C139-D506-48F9-83F7-3538E08009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B6F5-2937-4A39-84E3-D7D0201436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F228-0E50-4533-850E-589712A8433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A040-7CA5-4BDB-B07A-2E340E81D2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78A3-4A9E-42CF-9AD3-C822AB69C7D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CFB3-EF2B-4A3E-96C1-27142E6AA8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9D0C-C683-4394-BA1E-34C2B532348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2A21-425A-4A98-B2FB-D9355F1EF3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5B9-C43F-4059-B325-820B46C93A2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1607-90CF-4D60-91E0-62E3EA31D3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5" descr=""/>
          <p:cNvPicPr/>
          <p:nvPr/>
        </p:nvPicPr>
        <p:blipFill>
          <a:blip r:embed="rId2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4" descr=""/>
          <p:cNvPicPr/>
          <p:nvPr/>
        </p:nvPicPr>
        <p:blipFill>
          <a:blip r:embed="rId3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7" descr="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1440" y="53578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" descr=""/>
          <p:cNvPicPr/>
          <p:nvPr/>
        </p:nvPicPr>
        <p:blipFill>
          <a:blip r:embed="rId5"/>
          <a:stretch/>
        </p:blipFill>
        <p:spPr>
          <a:xfrm>
            <a:off x="0" y="5072040"/>
            <a:ext cx="914256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3840" y="3571920"/>
            <a:ext cx="76438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d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eadline He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7371720" y="635796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直接连接符 10"/>
          <p:cNvSpPr/>
          <p:nvPr/>
        </p:nvSpPr>
        <p:spPr>
          <a:xfrm>
            <a:off x="0" y="54291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2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440" y="51436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4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2752920" cy="27525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"/>
          <p:cNvPicPr/>
          <p:nvPr/>
        </p:nvPicPr>
        <p:blipFill>
          <a:blip r:embed="rId4"/>
          <a:stretch/>
        </p:blipFill>
        <p:spPr>
          <a:xfrm>
            <a:off x="2928960" y="71424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5" descr=""/>
          <p:cNvPicPr/>
          <p:nvPr/>
        </p:nvPicPr>
        <p:blipFill>
          <a:blip r:embed="rId5"/>
          <a:stretch/>
        </p:blipFill>
        <p:spPr>
          <a:xfrm>
            <a:off x="3571920" y="314316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" descr=""/>
          <p:cNvPicPr/>
          <p:nvPr/>
        </p:nvPicPr>
        <p:blipFill>
          <a:blip r:embed="rId6"/>
          <a:stretch/>
        </p:blipFill>
        <p:spPr>
          <a:xfrm>
            <a:off x="5572080" y="785880"/>
            <a:ext cx="2752920" cy="2752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-1069200" y="4643280"/>
            <a:ext cx="57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itannic Bold"/>
                <a:ea typeface="Calibri"/>
              </a:rPr>
              <a:t>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6" descr=""/>
          <p:cNvPicPr/>
          <p:nvPr/>
        </p:nvPicPr>
        <p:blipFill>
          <a:blip r:embed="rId7"/>
          <a:stretch/>
        </p:blipFill>
        <p:spPr>
          <a:xfrm>
            <a:off x="6143760" y="3214800"/>
            <a:ext cx="2752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57"/>
          <p:cNvSpPr/>
          <p:nvPr/>
        </p:nvSpPr>
        <p:spPr>
          <a:xfrm>
            <a:off x="0" y="2500200"/>
            <a:ext cx="4643280" cy="3429000"/>
          </a:xfrm>
          <a:prstGeom prst="rect">
            <a:avLst/>
          </a:prstGeom>
          <a:solidFill>
            <a:srgbClr val="94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8"/>
          <p:cNvSpPr/>
          <p:nvPr/>
        </p:nvSpPr>
        <p:spPr>
          <a:xfrm>
            <a:off x="4643280" y="2500200"/>
            <a:ext cx="4500720" cy="3429000"/>
          </a:xfrm>
          <a:prstGeom prst="rect">
            <a:avLst/>
          </a:prstGeom>
          <a:solidFill>
            <a:srgbClr val="fd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5"/>
          <p:cNvSpPr/>
          <p:nvPr/>
        </p:nvSpPr>
        <p:spPr>
          <a:xfrm>
            <a:off x="33480" y="15717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-946440" y="576360"/>
            <a:ext cx="45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84200" y="5203800"/>
            <a:ext cx="792000" cy="949320"/>
            <a:chOff x="484200" y="5203800"/>
            <a:chExt cx="792000" cy="949320"/>
          </a:xfrm>
        </p:grpSpPr>
        <p:pic>
          <p:nvPicPr>
            <p:cNvPr id="267" name="Picture 27" descr="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484200" y="5203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1"/>
            <p:cNvSpPr/>
            <p:nvPr/>
          </p:nvSpPr>
          <p:spPr>
            <a:xfrm>
              <a:off x="830160" y="534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88880" y="2649600"/>
            <a:ext cx="792360" cy="949320"/>
            <a:chOff x="488880" y="2649600"/>
            <a:chExt cx="792360" cy="949320"/>
          </a:xfrm>
        </p:grpSpPr>
        <p:pic>
          <p:nvPicPr>
            <p:cNvPr id="270" name="Picture 30" descr="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48888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2"/>
            <p:cNvSpPr/>
            <p:nvPr/>
          </p:nvSpPr>
          <p:spPr>
            <a:xfrm>
              <a:off x="80964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0040" y="3506760"/>
            <a:ext cx="792360" cy="949320"/>
            <a:chOff x="500040" y="3506760"/>
            <a:chExt cx="792360" cy="949320"/>
          </a:xfrm>
        </p:grpSpPr>
        <p:pic>
          <p:nvPicPr>
            <p:cNvPr id="273" name="Picture 29" descr=""/>
            <p:cNvPicPr/>
            <p:nvPr/>
          </p:nvPicPr>
          <p:blipFill>
            <a:blip r:embed="rId4"/>
            <a:srcRect l="42620" t="64489" r="19467" b="0"/>
            <a:stretch/>
          </p:blipFill>
          <p:spPr>
            <a:xfrm>
              <a:off x="50004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3"/>
            <p:cNvSpPr/>
            <p:nvPr/>
          </p:nvSpPr>
          <p:spPr>
            <a:xfrm>
              <a:off x="82224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00040" y="4357800"/>
            <a:ext cx="792360" cy="949320"/>
            <a:chOff x="500040" y="4357800"/>
            <a:chExt cx="792360" cy="949320"/>
          </a:xfrm>
        </p:grpSpPr>
        <p:pic>
          <p:nvPicPr>
            <p:cNvPr id="276" name="Picture 28" descr=""/>
            <p:cNvPicPr/>
            <p:nvPr/>
          </p:nvPicPr>
          <p:blipFill>
            <a:blip r:embed="rId5"/>
            <a:srcRect l="42620" t="64489" r="19467" b="0"/>
            <a:stretch/>
          </p:blipFill>
          <p:spPr>
            <a:xfrm>
              <a:off x="500040" y="43578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34"/>
            <p:cNvSpPr/>
            <p:nvPr/>
          </p:nvSpPr>
          <p:spPr>
            <a:xfrm>
              <a:off x="822240" y="4492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775040" y="2649600"/>
            <a:ext cx="792360" cy="949320"/>
            <a:chOff x="4775040" y="2649600"/>
            <a:chExt cx="792360" cy="949320"/>
          </a:xfrm>
        </p:grpSpPr>
        <p:pic>
          <p:nvPicPr>
            <p:cNvPr id="279" name="Picture 30" descr=""/>
            <p:cNvPicPr/>
            <p:nvPr/>
          </p:nvPicPr>
          <p:blipFill>
            <a:blip r:embed="rId6"/>
            <a:srcRect l="42620" t="64489" r="19467" b="0"/>
            <a:stretch/>
          </p:blipFill>
          <p:spPr>
            <a:xfrm>
              <a:off x="477504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2"/>
            <p:cNvSpPr/>
            <p:nvPr/>
          </p:nvSpPr>
          <p:spPr>
            <a:xfrm>
              <a:off x="509580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86200" y="3506760"/>
            <a:ext cx="792360" cy="949320"/>
            <a:chOff x="4786200" y="3506760"/>
            <a:chExt cx="792360" cy="949320"/>
          </a:xfrm>
        </p:grpSpPr>
        <p:pic>
          <p:nvPicPr>
            <p:cNvPr id="282" name="Picture 29" descr=""/>
            <p:cNvPicPr/>
            <p:nvPr/>
          </p:nvPicPr>
          <p:blipFill>
            <a:blip r:embed="rId7"/>
            <a:srcRect l="42620" t="64489" r="19467" b="0"/>
            <a:stretch/>
          </p:blipFill>
          <p:spPr>
            <a:xfrm>
              <a:off x="478620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33"/>
            <p:cNvSpPr/>
            <p:nvPr/>
          </p:nvSpPr>
          <p:spPr>
            <a:xfrm>
              <a:off x="510840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80080" y="4357800"/>
            <a:ext cx="792000" cy="949320"/>
            <a:chOff x="4780080" y="4357800"/>
            <a:chExt cx="792000" cy="949320"/>
          </a:xfrm>
        </p:grpSpPr>
        <p:pic>
          <p:nvPicPr>
            <p:cNvPr id="285" name="Picture 28" descr=""/>
            <p:cNvPicPr/>
            <p:nvPr/>
          </p:nvPicPr>
          <p:blipFill>
            <a:blip r:embed="rId8"/>
            <a:srcRect l="42620" t="64489" r="19467" b="0"/>
            <a:stretch/>
          </p:blipFill>
          <p:spPr>
            <a:xfrm>
              <a:off x="4780080" y="4357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34"/>
            <p:cNvSpPr/>
            <p:nvPr/>
          </p:nvSpPr>
          <p:spPr>
            <a:xfrm>
              <a:off x="5102280" y="4492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00040" y="1643040"/>
            <a:ext cx="3786120" cy="1191240"/>
            <a:chOff x="500040" y="1643040"/>
            <a:chExt cx="3786120" cy="1191240"/>
          </a:xfrm>
        </p:grpSpPr>
        <p:sp>
          <p:nvSpPr>
            <p:cNvPr id="288" name="矩形标注 30"/>
            <p:cNvSpPr/>
            <p:nvPr/>
          </p:nvSpPr>
          <p:spPr>
            <a:xfrm>
              <a:off x="500040" y="1714320"/>
              <a:ext cx="3786120" cy="642960"/>
            </a:xfrm>
            <a:prstGeom prst="wedgeRectCallout">
              <a:avLst>
                <a:gd name="adj1" fmla="val -39500"/>
                <a:gd name="adj2" fmla="val 95500"/>
              </a:avLst>
            </a:prstGeom>
            <a:solidFill>
              <a:srgbClr val="ffffff"/>
            </a:solidFill>
            <a:ln w="93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55"/>
            <p:cNvSpPr/>
            <p:nvPr/>
          </p:nvSpPr>
          <p:spPr>
            <a:xfrm>
              <a:off x="785520" y="164304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022280" y="1714680"/>
            <a:ext cx="4907520" cy="645840"/>
            <a:chOff x="4022280" y="1714680"/>
            <a:chExt cx="4907520" cy="645840"/>
          </a:xfrm>
        </p:grpSpPr>
        <p:sp>
          <p:nvSpPr>
            <p:cNvPr id="291" name="矩形标注 56"/>
            <p:cNvSpPr/>
            <p:nvPr/>
          </p:nvSpPr>
          <p:spPr>
            <a:xfrm>
              <a:off x="4786200" y="1717560"/>
              <a:ext cx="4143600" cy="642960"/>
            </a:xfrm>
            <a:prstGeom prst="wedgeRectCallout">
              <a:avLst>
                <a:gd name="adj1" fmla="val -38319"/>
                <a:gd name="adj2" fmla="val 77208"/>
              </a:avLst>
            </a:prstGeom>
            <a:solidFill>
              <a:srgbClr val="ffffff"/>
            </a:soli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68"/>
            <p:cNvSpPr/>
            <p:nvPr/>
          </p:nvSpPr>
          <p:spPr>
            <a:xfrm>
              <a:off x="4022280" y="1714680"/>
              <a:ext cx="32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矩形 61"/>
          <p:cNvSpPr/>
          <p:nvPr/>
        </p:nvSpPr>
        <p:spPr>
          <a:xfrm>
            <a:off x="438120" y="27860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14920" y="5072040"/>
            <a:ext cx="792000" cy="949320"/>
            <a:chOff x="4714920" y="5072040"/>
            <a:chExt cx="792000" cy="949320"/>
          </a:xfrm>
        </p:grpSpPr>
        <p:pic>
          <p:nvPicPr>
            <p:cNvPr id="295" name="Picture 27" descr=""/>
            <p:cNvPicPr/>
            <p:nvPr/>
          </p:nvPicPr>
          <p:blipFill>
            <a:blip r:embed="rId9"/>
            <a:srcRect l="42620" t="64489" r="19467" b="0"/>
            <a:stretch/>
          </p:blipFill>
          <p:spPr>
            <a:xfrm>
              <a:off x="4714920" y="507204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31"/>
            <p:cNvSpPr/>
            <p:nvPr/>
          </p:nvSpPr>
          <p:spPr>
            <a:xfrm>
              <a:off x="5060880" y="520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矩形 72"/>
          <p:cNvSpPr/>
          <p:nvPr/>
        </p:nvSpPr>
        <p:spPr>
          <a:xfrm>
            <a:off x="438120" y="3641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3"/>
          <p:cNvSpPr/>
          <p:nvPr/>
        </p:nvSpPr>
        <p:spPr>
          <a:xfrm>
            <a:off x="438120" y="44989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74"/>
          <p:cNvSpPr/>
          <p:nvPr/>
        </p:nvSpPr>
        <p:spPr>
          <a:xfrm>
            <a:off x="438120" y="52862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5"/>
          <p:cNvSpPr/>
          <p:nvPr/>
        </p:nvSpPr>
        <p:spPr>
          <a:xfrm>
            <a:off x="4724640" y="2714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6"/>
          <p:cNvSpPr/>
          <p:nvPr/>
        </p:nvSpPr>
        <p:spPr>
          <a:xfrm>
            <a:off x="4724640" y="35701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7"/>
          <p:cNvSpPr/>
          <p:nvPr/>
        </p:nvSpPr>
        <p:spPr>
          <a:xfrm>
            <a:off x="4724640" y="44276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8"/>
          <p:cNvSpPr/>
          <p:nvPr/>
        </p:nvSpPr>
        <p:spPr>
          <a:xfrm>
            <a:off x="4724640" y="52149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矩形 4"/>
          <p:cNvSpPr/>
          <p:nvPr/>
        </p:nvSpPr>
        <p:spPr>
          <a:xfrm>
            <a:off x="500040" y="4929120"/>
            <a:ext cx="64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4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"/>
          <p:cNvSpPr/>
          <p:nvPr/>
        </p:nvSpPr>
        <p:spPr>
          <a:xfrm>
            <a:off x="642960" y="457200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1500120" y="264312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"/>
          <p:cNvSpPr/>
          <p:nvPr/>
        </p:nvSpPr>
        <p:spPr>
          <a:xfrm>
            <a:off x="642960" y="457200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1500120" y="264312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7:14:00Z</dcterms:created>
  <dc:creator>dt</dc:creator>
  <dc:description/>
  <dc:language>en-US</dc:language>
  <cp:lastModifiedBy>Administrator</cp:lastModifiedBy>
  <cp:lastPrinted>1899-12-30T00:00:00Z</cp:lastPrinted>
  <dcterms:modified xsi:type="dcterms:W3CDTF">2011-11-01T09:13:00Z</dcterms:modified>
  <cp:revision>1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