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D069-1DFB-4DB4-9A12-1A4B58B1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EE9C-41B5-4662-BEAB-0702DF80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12CA-8E2F-44E1-8EAA-773E6A6A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5895-0B4D-40C7-8F31-EE5FBF9DF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924C-C033-4511-8C9F-8E64B958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228F-BC2A-43BC-BAFE-1490D995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1EF7-2332-4BC0-910F-67AF2B31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83B8-FA29-4593-879A-68C1E3FD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44B1-BDB4-40CB-8A94-BFAAF413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AEE5-7F2E-485C-9C53-2BE559CA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C5E4-7F3C-4990-95E2-4B8EC650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2334-D19B-407D-AF69-37FF0219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2EF0-8311-4F20-9701-DD29F74BB4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2"/>
          <a:stretch/>
        </p:blipFill>
        <p:spPr>
          <a:xfrm>
            <a:off x="652320" y="1225440"/>
            <a:ext cx="3486240" cy="127332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3"/>
          <a:stretch/>
        </p:blipFill>
        <p:spPr>
          <a:xfrm>
            <a:off x="5400720" y="5187960"/>
            <a:ext cx="3584520" cy="12682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0" descr=""/>
          <p:cNvPicPr/>
          <p:nvPr/>
        </p:nvPicPr>
        <p:blipFill>
          <a:blip r:embed="rId4"/>
          <a:stretch/>
        </p:blipFill>
        <p:spPr>
          <a:xfrm>
            <a:off x="4273560" y="1268280"/>
            <a:ext cx="3029040" cy="637560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4" descr=""/>
          <p:cNvPicPr/>
          <p:nvPr/>
        </p:nvPicPr>
        <p:blipFill>
          <a:blip r:embed="rId5"/>
          <a:stretch/>
        </p:blipFill>
        <p:spPr>
          <a:xfrm>
            <a:off x="414360" y="2535120"/>
            <a:ext cx="635796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E:\资料\图片素材\PSD和图片\辛伟乐_【文艺范2摄影师】教你如何拍出完美婚照❤❤☻...(1)\008.jpg"/>
          <p:cNvPicPr/>
          <p:nvPr/>
        </p:nvPicPr>
        <p:blipFill>
          <a:blip r:embed="rId1"/>
          <a:stretch/>
        </p:blipFill>
        <p:spPr>
          <a:xfrm>
            <a:off x="4280040" y="1616040"/>
            <a:ext cx="4157640" cy="803448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7" descr=""/>
          <p:cNvPicPr/>
          <p:nvPr/>
        </p:nvPicPr>
        <p:blipFill>
          <a:blip r:embed="rId2"/>
          <a:stretch/>
        </p:blipFill>
        <p:spPr>
          <a:xfrm>
            <a:off x="743040" y="652320"/>
            <a:ext cx="3975120" cy="175608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8" descr=""/>
          <p:cNvPicPr/>
          <p:nvPr/>
        </p:nvPicPr>
        <p:blipFill>
          <a:blip r:embed="rId3"/>
          <a:stretch/>
        </p:blipFill>
        <p:spPr>
          <a:xfrm>
            <a:off x="1255680" y="3236760"/>
            <a:ext cx="2646360" cy="116388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9" descr=""/>
          <p:cNvPicPr/>
          <p:nvPr/>
        </p:nvPicPr>
        <p:blipFill>
          <a:blip r:embed="rId4"/>
          <a:stretch/>
        </p:blipFill>
        <p:spPr>
          <a:xfrm>
            <a:off x="1255680" y="2548080"/>
            <a:ext cx="264636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E:\资料\图片素材\PSD和图片\辛伟乐_【文艺范2摄影师】教你如何拍出完美婚照❤❤☻...(1)\020.jpg"/>
          <p:cNvPicPr/>
          <p:nvPr/>
        </p:nvPicPr>
        <p:blipFill>
          <a:blip r:embed="rId1"/>
          <a:stretch/>
        </p:blipFill>
        <p:spPr>
          <a:xfrm>
            <a:off x="1944720" y="2255760"/>
            <a:ext cx="5492880" cy="730908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1" descr=""/>
          <p:cNvPicPr/>
          <p:nvPr/>
        </p:nvPicPr>
        <p:blipFill>
          <a:blip r:embed="rId2"/>
          <a:stretch/>
        </p:blipFill>
        <p:spPr>
          <a:xfrm>
            <a:off x="30240" y="371520"/>
            <a:ext cx="636408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PT STORE</dc:creator>
  <dc:description> ☆ 感谢您使用PPT STORE网站平台上发布的免费原创作品，作品仅供个人或公司使用，为了您和PPT STORE以及原创作者的利益，请勿复制、传播、销售，否则将承担法律责任！
  ☆ 其他网站或个人若进行转载发布PPT STORE平台的免费原创作品，请保留此文件和注释的完整性，并注明来源于 PPT STORE 官方网站：http://www.pptstore.net和PPT STORE 官方微博：http://weibo.com/pptstore
     未按照要求转发或发布，PPT STORE平台将和原创作者共同维权，索取赔偿！
  ☆ 感谢您支持原创设计事业，支持设计版权产品 ！
  ☆ 本模板由PPT STORE官方网站 原创设计
  ☆ PPT STORE 官方网站：http://www.pptstore.net
  ☆ PPT STORE 官方微博：http://weibo.com/pptstore</dc:description>
  <cp:keywords>高贵 浪漫 典雅 梦幻 紫色 婚庆 PPT模板</cp:keywords>
  <dc:language>en-US</dc:language>
  <cp:lastModifiedBy>微软用户</cp:lastModifiedBy>
  <dcterms:modified xsi:type="dcterms:W3CDTF">2012-01-11T08:30:36Z</dcterms:modified>
  <cp:revision>8</cp:revision>
  <dc:subject>紫色</dc:subject>
  <dc:title>高贵浪漫典雅梦幻紫色婚礼PPT模板</dc:title>
</cp:coreProperties>
</file>