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8453160" y="4428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2EF0-1C5B-4CB4-B2F7-B8AE11457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8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9"/>
          <p:cNvSpPr/>
          <p:nvPr/>
        </p:nvSpPr>
        <p:spPr>
          <a:xfrm>
            <a:off x="0" y="701640"/>
            <a:ext cx="914076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420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铅笔手写年终总结报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560880" y="141120"/>
            <a:ext cx="668520" cy="58140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f7b1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bar01"/>
          <p:cNvPicPr/>
          <p:nvPr/>
        </p:nvPicPr>
        <p:blipFill>
          <a:blip r:embed="rId2"/>
          <a:stretch/>
        </p:blipFill>
        <p:spPr>
          <a:xfrm>
            <a:off x="2124000" y="1484280"/>
            <a:ext cx="4170600" cy="720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bar01"/>
          <p:cNvPicPr/>
          <p:nvPr/>
        </p:nvPicPr>
        <p:blipFill>
          <a:blip r:embed="rId3"/>
          <a:stretch/>
        </p:blipFill>
        <p:spPr>
          <a:xfrm>
            <a:off x="2124000" y="2205000"/>
            <a:ext cx="4170600" cy="720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bar01"/>
          <p:cNvPicPr/>
          <p:nvPr/>
        </p:nvPicPr>
        <p:blipFill>
          <a:blip r:embed="rId4"/>
          <a:stretch/>
        </p:blipFill>
        <p:spPr>
          <a:xfrm>
            <a:off x="2124000" y="2925720"/>
            <a:ext cx="4170600" cy="720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bar01"/>
          <p:cNvPicPr/>
          <p:nvPr/>
        </p:nvPicPr>
        <p:blipFill>
          <a:blip r:embed="rId5"/>
          <a:stretch/>
        </p:blipFill>
        <p:spPr>
          <a:xfrm>
            <a:off x="2124000" y="3645000"/>
            <a:ext cx="4170600" cy="7207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9"/>
          <p:cNvSpPr/>
          <p:nvPr/>
        </p:nvSpPr>
        <p:spPr>
          <a:xfrm>
            <a:off x="2867040" y="1628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这是目录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2867040" y="2349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这是目录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2867040" y="30686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这是目录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2867040" y="3716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这是目录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4237920" y="1916280"/>
            <a:ext cx="8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可以复制、发行、展览、表演、放映、广播或通过信息网络传播本作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236600" y="22759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您可以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创作演绎作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934280" y="263628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必须按照作者或者许可人指定的方式对作品进行署名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96440" y="2996640"/>
            <a:ext cx="21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您不得将本作品用于商业目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798480" y="96840"/>
            <a:ext cx="1155960" cy="58140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f7b10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未标题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未标题-2"/>
          <p:cNvPicPr/>
          <p:nvPr/>
        </p:nvPicPr>
        <p:blipFill>
          <a:blip r:embed="rId3"/>
          <a:stretch/>
        </p:blipFill>
        <p:spPr>
          <a:xfrm>
            <a:off x="1692360" y="1700280"/>
            <a:ext cx="3240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6:47:09Z</dcterms:created>
  <dc:creator>www.pc6.com</dc:creator>
  <dc:description>www.pc6.com</dc:description>
  <cp:keywords>www.pc6.com</cp:keywords>
  <dc:language>en-US</dc:language>
  <cp:lastModifiedBy>微软用户</cp:lastModifiedBy>
  <cp:lastPrinted>1899-12-30T00:00:00Z</cp:lastPrinted>
  <dcterms:modified xsi:type="dcterms:W3CDTF">2012-12-26T03:50:30Z</dcterms:modified>
  <cp:revision>10</cp:revision>
  <dc:subject>www.pc6.com</dc:subject>
  <dc:title>www.pc6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