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90D-2F2A-4C23-92FD-9191E77E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EAC-91D3-4CD8-8F55-C020393D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BB4-07D1-473B-AC0B-7E2DD168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625-9622-4995-A164-41C5AF69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2A4-E2F2-4A58-9B50-CB457AE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5D2-74A2-44FD-966D-34B7DFB4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FA6-A90B-4DD8-A670-70A13D3A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03C-AFDD-4067-85B8-F95D1749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83F-3E52-4452-B5ED-4246C28F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DB5-17E5-4F07-AFAC-1BF8D39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FF0-0D24-4A4E-A3B7-3FF09CF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D0C-8C39-440D-83D7-4C23510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5570-A11D-4036-9E8C-BD8FAA62DC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9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0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1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2" descr="1.1.1.4.png"/>
          <p:cNvPicPr/>
          <p:nvPr/>
        </p:nvPicPr>
        <p:blipFill>
          <a:blip r:embed="rId4"/>
          <a:srcRect l="30469" t="33333" r="46094" b="25002"/>
          <a:stretch/>
        </p:blipFill>
        <p:spPr>
          <a:xfrm>
            <a:off x="2786040" y="2571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3" descr="1.1.1.5.png"/>
          <p:cNvPicPr/>
          <p:nvPr/>
        </p:nvPicPr>
        <p:blipFill>
          <a:blip r:embed="rId5"/>
          <a:srcRect l="50001" t="51389" r="30469" b="5557"/>
          <a:stretch/>
        </p:blipFill>
        <p:spPr>
          <a:xfrm>
            <a:off x="4572000" y="350028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4" descr="1.1.1.5.png"/>
          <p:cNvPicPr/>
          <p:nvPr/>
        </p:nvPicPr>
        <p:blipFill>
          <a:blip r:embed="rId6"/>
          <a:srcRect l="67188" t="51389" r="0" b="0"/>
          <a:stretch/>
        </p:blipFill>
        <p:spPr>
          <a:xfrm>
            <a:off x="6143760" y="3500280"/>
            <a:ext cx="3000240" cy="2500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5" descr="1.1.1.7.png"/>
          <p:cNvPicPr/>
          <p:nvPr/>
        </p:nvPicPr>
        <p:blipFill>
          <a:blip r:embed="rId7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6" descr="1.1.1.8.png"/>
          <p:cNvPicPr/>
          <p:nvPr/>
        </p:nvPicPr>
        <p:blipFill>
          <a:blip r:embed="rId8"/>
          <a:srcRect l="41407" t="81947" r="53906" b="9721"/>
          <a:stretch/>
        </p:blipFill>
        <p:spPr>
          <a:xfrm>
            <a:off x="5143680" y="50720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49" name="锐得PPT1" descr="1.1.1.9.png"/>
          <p:cNvPicPr/>
          <p:nvPr/>
        </p:nvPicPr>
        <p:blipFill>
          <a:blip r:embed="rId9"/>
          <a:srcRect l="36719" t="44447" r="36719" b="20834"/>
          <a:stretch/>
        </p:blipFill>
        <p:spPr>
          <a:xfrm>
            <a:off x="3357720" y="314316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锐得PPT" descr="1.1.2.2.png"/>
          <p:cNvPicPr/>
          <p:nvPr/>
        </p:nvPicPr>
        <p:blipFill>
          <a:blip r:embed="rId10"/>
          <a:srcRect l="37500" t="38890" r="35937" b="18056"/>
          <a:stretch/>
        </p:blipFill>
        <p:spPr>
          <a:xfrm>
            <a:off x="3429000" y="285768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9" descr="1.1.2.1.png"/>
          <p:cNvPicPr/>
          <p:nvPr/>
        </p:nvPicPr>
        <p:blipFill>
          <a:blip r:embed="rId11"/>
          <a:srcRect l="36719" t="52778" r="56250" b="31944"/>
          <a:stretch/>
        </p:blipFill>
        <p:spPr>
          <a:xfrm>
            <a:off x="3357720" y="3571920"/>
            <a:ext cx="64296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0" descr="1.1.1.7.png"/>
          <p:cNvPicPr/>
          <p:nvPr/>
        </p:nvPicPr>
        <p:blipFill>
          <a:blip r:embed="rId12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1" descr="1.1.1.7.png"/>
          <p:cNvPicPr/>
          <p:nvPr/>
        </p:nvPicPr>
        <p:blipFill>
          <a:blip r:embed="rId13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2" descr="1.1.1.7.png"/>
          <p:cNvPicPr/>
          <p:nvPr/>
        </p:nvPicPr>
        <p:blipFill>
          <a:blip r:embed="rId14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3" descr="1.1.1.7.png"/>
          <p:cNvPicPr/>
          <p:nvPr/>
        </p:nvPicPr>
        <p:blipFill>
          <a:blip r:embed="rId15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4" descr="1.1.1.7.png"/>
          <p:cNvPicPr/>
          <p:nvPr/>
        </p:nvPicPr>
        <p:blipFill>
          <a:blip r:embed="rId16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5" descr="1.1.1.7.png"/>
          <p:cNvPicPr/>
          <p:nvPr/>
        </p:nvPicPr>
        <p:blipFill>
          <a:blip r:embed="rId17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6" descr="1.1.1.7.png"/>
          <p:cNvPicPr/>
          <p:nvPr/>
        </p:nvPicPr>
        <p:blipFill>
          <a:blip r:embed="rId18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7" descr="1.1.1.7.png"/>
          <p:cNvPicPr/>
          <p:nvPr/>
        </p:nvPicPr>
        <p:blipFill>
          <a:blip r:embed="rId19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8" descr="1.1.1.8.png"/>
          <p:cNvPicPr/>
          <p:nvPr/>
        </p:nvPicPr>
        <p:blipFill>
          <a:blip r:embed="rId20"/>
          <a:srcRect l="5468" t="66670" r="89845" b="22223"/>
          <a:stretch/>
        </p:blipFill>
        <p:spPr>
          <a:xfrm>
            <a:off x="500040" y="428616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9" descr="1.1.1.8.png"/>
          <p:cNvPicPr/>
          <p:nvPr/>
        </p:nvPicPr>
        <p:blipFill>
          <a:blip r:embed="rId21"/>
          <a:srcRect l="75789" t="45836" r="19524" b="45833"/>
          <a:stretch/>
        </p:blipFill>
        <p:spPr>
          <a:xfrm>
            <a:off x="3786120" y="507204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0" descr="1.1.1.8.png"/>
          <p:cNvPicPr/>
          <p:nvPr/>
        </p:nvPicPr>
        <p:blipFill>
          <a:blip r:embed="rId22"/>
          <a:srcRect l="80477" t="66670" r="15617" b="26391"/>
          <a:stretch/>
        </p:blipFill>
        <p:spPr>
          <a:xfrm>
            <a:off x="7358040" y="4286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1" descr="1.1.1.8.png"/>
          <p:cNvPicPr/>
          <p:nvPr/>
        </p:nvPicPr>
        <p:blipFill>
          <a:blip r:embed="rId23"/>
          <a:srcRect l="22652" t="81947" r="71880" b="9721"/>
          <a:stretch/>
        </p:blipFill>
        <p:spPr>
          <a:xfrm>
            <a:off x="2071800" y="507204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2" descr="1.1.1.8.png"/>
          <p:cNvPicPr/>
          <p:nvPr/>
        </p:nvPicPr>
        <p:blipFill>
          <a:blip r:embed="rId24"/>
          <a:srcRect l="5468" t="66670" r="89845" b="22223"/>
          <a:stretch/>
        </p:blipFill>
        <p:spPr>
          <a:xfrm>
            <a:off x="1557360" y="5140440"/>
            <a:ext cx="503280" cy="6714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3" descr="1.1.1.8.png"/>
          <p:cNvPicPr/>
          <p:nvPr/>
        </p:nvPicPr>
        <p:blipFill>
          <a:blip r:embed="rId25"/>
          <a:srcRect l="22652" t="81947" r="71880" b="9721"/>
          <a:stretch/>
        </p:blipFill>
        <p:spPr>
          <a:xfrm>
            <a:off x="8448840" y="4540320"/>
            <a:ext cx="539640" cy="46332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55" descr=""/>
          <p:cNvPicPr/>
          <p:nvPr/>
        </p:nvPicPr>
        <p:blipFill>
          <a:blip r:embed="rId26"/>
          <a:stretch/>
        </p:blipFill>
        <p:spPr>
          <a:xfrm>
            <a:off x="3773520" y="3376440"/>
            <a:ext cx="1676520" cy="9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9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7552 -0.64662 C -0.24306 -0.60823 -0.21059 -0.56961 -0.19393 -0.50809 C -0.17726 -0.44658 -0.19115 -0.33927 -0.17552 -0.27706 C -0.1599 -0.21508 -0.129 -0.18987 -0.1 -0.13575 C -0.07101 -0.08164 -0.02188 0.00948 -0.00139 0.04764 E">
                                      <p:cBhvr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608 -0.54068 C 0.21337 -0.50069 0.22066 -0.46047 0.20608 -0.40199 C 0.19149 -0.3435 0.14635 -0.25774 0.1184 -0.19024 C 0.09045 -0.12274 0.05851 -0.02889 0.03872 0.00278 C 0.01892 0.03445 0.00938 0.01711 4.44444E-006 -6.14887E-007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3889 -0.31753 C 0.03767 -0.32401 0.03646 -0.35384 0.03177 -0.35615 C 0.02708 -0.35846 0.01927 -0.33973 0.01024 -0.33094 C 0.00122 -0.32216 -0.01424 -0.31845 -0.0224 -0.30389 C -0.03056 -0.28932 -0.04149 -0.27613 -0.03872 -0.24399 C -0.03594 -0.21207 -0.01215 -0.14986 -0.00608 -0.11101 C 5.55111512312578E-017 -0.07216 -0.00104 -0.0414 -0.00191 -0.01041 E">
                                      <p:cBhvr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3019 -0.47272 C -0.30017 -0.38627 -0.29843 -0.29958 -0.28558 -0.24988 C -0.27274 -0.20018 -0.24322 -0.20897 -0.22447 -0.17383 C -0.20572 -0.13892 -0.19444 -0.07004 -0.17343 -0.04068 C -0.15242 -0.01132 -0.12673 -0.00393 -0.09791 0.00278 C -0.06909 0.00948 -0.03454 0.00463 6.38889E-006 -4.43828E-007 E">
                                      <p:cBhvr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6128 -0.64678 C 0.16684 -0.59292 0.17239 -0.53906 0.1592 -0.47827 C 0.14601 -0.41747 0.10104 -0.34188 0.0816 -0.28248 C 0.06215 -0.22307 0.05642 -0.16944 0.04288 -0.12228 C 0.02934 -0.07512 0.01458 -0.03768 1.38889E-006 1.33148E-006 E">
                                      <p:cBhvr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 -0.6864 C 0.29098 -0.62257 0.28212 -0.55805 0.25591 -0.49769 C 0.22952 -0.43756 0.16858 -0.38529 0.14219 -0.32539 C 0.11563 -0.26619 0.12101 -0.19334 0.09723 -0.13899 C 0.07344 -0.08464 0.02032 -0.02914 -3.05556E-006 -1.07308E-006 E">
                                      <p:cBhvr>
                                        <p:cTn id="8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46336 -0.55456 C -0.41632 -0.49608 -0.36909 -0.43759 -0.33264 -0.36686 C -0.29618 -0.29612 -0.28402 -0.18863 -0.24496 -0.13061 C -0.2059 -0.07259 -0.13889 -0.04092 -0.09809 -0.01919 C -0.05729 0.00254 -0.02864 0.00115 -2.22222E-006 -7.40638E-006 E">
                                      <p:cBhvr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grpSp>
        <p:nvGrpSpPr>
          <p:cNvPr id="88" name="锐得PPT"/>
          <p:cNvGrpSpPr/>
          <p:nvPr/>
        </p:nvGrpSpPr>
        <p:grpSpPr>
          <a:xfrm>
            <a:off x="2387520" y="2259000"/>
            <a:ext cx="4229280" cy="3643200"/>
            <a:chOff x="2387520" y="2259000"/>
            <a:chExt cx="4229280" cy="3643200"/>
          </a:xfrm>
        </p:grpSpPr>
        <p:pic>
          <p:nvPicPr>
            <p:cNvPr id="89" name="Picture 2" descr="D:\Backup\我的文档\My Pictures\1791507_123936051_2.jpg"/>
            <p:cNvPicPr/>
            <p:nvPr/>
          </p:nvPicPr>
          <p:blipFill>
            <a:blip r:embed="rId22"/>
            <a:stretch/>
          </p:blipFill>
          <p:spPr>
            <a:xfrm>
              <a:off x="2700720" y="2681640"/>
              <a:ext cx="3584880" cy="30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8" descr="2.1.1.5.png"/>
            <p:cNvPicPr/>
            <p:nvPr/>
          </p:nvPicPr>
          <p:blipFill>
            <a:blip r:embed="rId23"/>
            <a:srcRect l="24220" t="22223" r="25001" b="0"/>
            <a:stretch/>
          </p:blipFill>
          <p:spPr>
            <a:xfrm>
              <a:off x="2387520" y="2259000"/>
              <a:ext cx="4229280" cy="36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TextBox 67" descr=""/>
          <p:cNvPicPr/>
          <p:nvPr/>
        </p:nvPicPr>
        <p:blipFill>
          <a:blip r:embed="rId24"/>
          <a:stretch/>
        </p:blipFill>
        <p:spPr>
          <a:xfrm>
            <a:off x="2919240" y="1500120"/>
            <a:ext cx="344520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163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165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16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169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171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17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106" name="锐得PPT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8" descr="2.1.1.2.png"/>
          <p:cNvPicPr/>
          <p:nvPr/>
        </p:nvPicPr>
        <p:blipFill>
          <a:blip r:embed="rId22"/>
          <a:srcRect l="92193" t="33336" r="-4" b="52778"/>
          <a:stretch/>
        </p:blipFill>
        <p:spPr>
          <a:xfrm>
            <a:off x="8523360" y="2592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9" descr="2.1.1.2.png"/>
          <p:cNvPicPr/>
          <p:nvPr/>
        </p:nvPicPr>
        <p:blipFill>
          <a:blip r:embed="rId23"/>
          <a:srcRect l="2344" t="43057" r="91408" b="48614"/>
          <a:stretch/>
        </p:blipFill>
        <p:spPr>
          <a:xfrm>
            <a:off x="301680" y="307800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0" descr="2.1.1.2.png"/>
          <p:cNvPicPr/>
          <p:nvPr/>
        </p:nvPicPr>
        <p:blipFill>
          <a:blip r:embed="rId24"/>
          <a:srcRect l="14063" t="29169" r="80470" b="61113"/>
          <a:stretch/>
        </p:blipFill>
        <p:spPr>
          <a:xfrm>
            <a:off x="1347840" y="23716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31" descr="2.1.1.2.png"/>
          <p:cNvPicPr/>
          <p:nvPr/>
        </p:nvPicPr>
        <p:blipFill>
          <a:blip r:embed="rId25"/>
          <a:srcRect l="25781" t="34722" r="68751" b="54167"/>
          <a:stretch/>
        </p:blipFill>
        <p:spPr>
          <a:xfrm>
            <a:off x="2468520" y="275436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32" descr="2.1.1.2.png"/>
          <p:cNvPicPr/>
          <p:nvPr/>
        </p:nvPicPr>
        <p:blipFill>
          <a:blip r:embed="rId26"/>
          <a:srcRect l="61722" t="37504" r="32812" b="54167"/>
          <a:stretch/>
        </p:blipFill>
        <p:spPr>
          <a:xfrm>
            <a:off x="5729400" y="2637000"/>
            <a:ext cx="344520" cy="3441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3" descr="2.1.1.2.png"/>
          <p:cNvPicPr/>
          <p:nvPr/>
        </p:nvPicPr>
        <p:blipFill>
          <a:blip r:embed="rId27"/>
          <a:srcRect l="82035" t="31947" r="13280" b="61110"/>
          <a:stretch/>
        </p:blipFill>
        <p:spPr>
          <a:xfrm>
            <a:off x="7521480" y="2492280"/>
            <a:ext cx="395280" cy="3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206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208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21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212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214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2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PPT</dc:creator>
  <dc:description/>
  <dc:language>en-US</dc:language>
  <cp:lastModifiedBy>chinaz</cp:lastModifiedBy>
  <dcterms:modified xsi:type="dcterms:W3CDTF">2011-02-09T07:30:43Z</dcterms:modified>
  <cp:revision>63</cp:revision>
  <dc:subject>http://bbs.ruideppt.com/</dc:subject>
  <dc:title>北京锐得PPT论坛</dc:title>
</cp:coreProperties>
</file>