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F48-2F4C-42D7-ABAC-6167BD48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6F7-2288-490A-876B-6A3AC6A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144-265A-49D2-A82C-84D0542E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038-ED2C-4D6F-95D7-A5762166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128-4BCD-4F9B-8029-905BBF44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4F3-6A4E-4444-9CBF-960A1050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D26-8043-4996-9533-4356C8E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C00-6C75-4DE5-9EF7-03062923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BF5-7440-4CE0-A4D7-09D1B37B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45D-C39E-4C87-8105-C9557FA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F67-BF9A-4909-93B7-DE2E38C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957-B45E-4560-B09C-9FF910D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840-0AC4-41A3-BE3A-348AD36124B6}" type="datetime">
              <a:rPr b="0" lang="en-US" sz="1200" spc="-1" strike="noStrike">
                <a:solidFill>
                  <a:srgbClr val="4b4b4b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9770-36C1-4DA3-802D-75D08FB4EF73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c6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 Black"/>
                <a:ea typeface="宋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23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23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7" name="示例图片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1160" y="301680"/>
            <a:ext cx="372960" cy="4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355-BF38-45D6-9D2E-C58ED11CE9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20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05D-C47E-461B-A505-4A136D4FF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23" name="Freeform 65"/>
            <p:cNvSpPr/>
            <p:nvPr/>
          </p:nvSpPr>
          <p:spPr>
            <a:xfrm>
              <a:off x="676800" y="1631880"/>
              <a:ext cx="4841640" cy="186264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Freeform 66"/>
            <p:cNvSpPr/>
            <p:nvPr/>
          </p:nvSpPr>
          <p:spPr>
            <a:xfrm>
              <a:off x="4049640" y="2203920"/>
              <a:ext cx="558720" cy="570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70600"/>
                <a:gd name="textAreaBottom" fmla="*/ 570600 h 57060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Freeform 67"/>
            <p:cNvSpPr/>
            <p:nvPr/>
          </p:nvSpPr>
          <p:spPr>
            <a:xfrm>
              <a:off x="480960" y="2618280"/>
              <a:ext cx="1681200" cy="17629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Freeform 69"/>
            <p:cNvSpPr/>
            <p:nvPr/>
          </p:nvSpPr>
          <p:spPr>
            <a:xfrm>
              <a:off x="5547600" y="1708920"/>
              <a:ext cx="3273840" cy="315972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3159720"/>
                <a:gd name="textAreaBottom" fmla="*/ 3160080 h 315972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Freeform 70"/>
            <p:cNvSpPr/>
            <p:nvPr/>
          </p:nvSpPr>
          <p:spPr>
            <a:xfrm>
              <a:off x="659520" y="2083320"/>
              <a:ext cx="299520" cy="2278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Freeform 71"/>
            <p:cNvSpPr/>
            <p:nvPr/>
          </p:nvSpPr>
          <p:spPr>
            <a:xfrm>
              <a:off x="1951200" y="381060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Freeform 72"/>
            <p:cNvSpPr/>
            <p:nvPr/>
          </p:nvSpPr>
          <p:spPr>
            <a:xfrm>
              <a:off x="3203280" y="3378240"/>
              <a:ext cx="785160" cy="40968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Freeform 73"/>
            <p:cNvSpPr/>
            <p:nvPr/>
          </p:nvSpPr>
          <p:spPr>
            <a:xfrm>
              <a:off x="3547440" y="335160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Freeform 74"/>
            <p:cNvSpPr/>
            <p:nvPr/>
          </p:nvSpPr>
          <p:spPr>
            <a:xfrm>
              <a:off x="3957840" y="3463560"/>
              <a:ext cx="671400" cy="327600"/>
            </a:xfrm>
            <a:custGeom>
              <a:avLst/>
              <a:gdLst>
                <a:gd name="textAreaLeft" fmla="*/ 0 w 671400"/>
                <a:gd name="textAreaRight" fmla="*/ 671400 w 671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Freeform 75"/>
            <p:cNvSpPr/>
            <p:nvPr/>
          </p:nvSpPr>
          <p:spPr>
            <a:xfrm>
              <a:off x="3737880" y="3051720"/>
              <a:ext cx="238680" cy="341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Freeform 76"/>
            <p:cNvSpPr/>
            <p:nvPr/>
          </p:nvSpPr>
          <p:spPr>
            <a:xfrm>
              <a:off x="4404240" y="4481280"/>
              <a:ext cx="112320" cy="101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5" name="Freeform 77"/>
            <p:cNvSpPr/>
            <p:nvPr/>
          </p:nvSpPr>
          <p:spPr>
            <a:xfrm>
              <a:off x="4920480" y="4347360"/>
              <a:ext cx="318240" cy="3153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360"/>
                <a:gd name="textAreaBottom" fmla="*/ 315360 h 31536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6" name="Freeform 78"/>
            <p:cNvSpPr/>
            <p:nvPr/>
          </p:nvSpPr>
          <p:spPr>
            <a:xfrm>
              <a:off x="7583040" y="2955240"/>
              <a:ext cx="456480" cy="1519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DA8-A350-468A-9384-6C5DF7BC2C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87B-C13B-4CF8-ABC0-C1710A0807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宋体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331-627A-4AE1-96AF-A2F99D0B47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宋体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6FA-489C-4C7D-93F8-170941C399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0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6DC-3C1A-44AD-B726-618A23938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4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318-335B-4161-A31B-8C0F20E80A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6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C8A-6BA5-422D-9C9F-9FA0E133C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11F-136F-4030-9C45-F2120E6D4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25D-0A85-4854-A75A-E44E34E912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6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A5B-8427-41C3-99F1-967A7D1F72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; ilovePPT.ORG</dc:creator>
  <dc:description/>
  <cp:keywords>我爱PPT中文网; 4.3; 浅棕色; 静态; L</cp:keywords>
  <dc:language>en-US</dc:language>
  <cp:lastModifiedBy>www.pc6.com</cp:lastModifiedBy>
  <cp:lastPrinted>1899-12-30T00:00:00Z</cp:lastPrinted>
  <dcterms:modified xsi:type="dcterms:W3CDTF">2012-02-23T06:37:00Z</dcterms:modified>
  <cp:revision>7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