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F160-CE7D-4EB2-B6F1-2C95FB6F392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BDCD-453A-4404-9F44-C946798D00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5E33-15D7-4D7E-A4C6-63C0A7E591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9B61-30EA-414A-AE61-9E06F94C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2FD606-6FB7-45F9-882D-EE0D8C18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303DE6-DF4E-49CA-8713-DD3CD1D2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AD438F-79A7-492C-B389-EF4BCD70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1BB6C4-2A95-4419-A0E3-365C4B87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6B3274-A518-4840-8C50-C183F6A8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23B220-6EF0-4863-92A8-8FCF756A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DF42F9-8877-4FF0-95B1-9F88C06A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AFEA17-87E7-4B0C-A17D-9FC39DDD4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B3F839-59C2-49C6-ABAA-C102A217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6707DE-6D00-4293-9B48-BD751E73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D4005-6D9E-4284-9B82-B7A1EEC4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F5661C-65C1-4797-ADA2-1392048D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1B350D-AC0C-437D-ADDB-5E68A0CE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EDE9A8-99D8-42C5-A5C8-7F022901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8EBEB6-6995-4B16-86A4-D35D7ACB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4A4B1D-600A-4BB9-93C6-1A96511C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51D9D1-C2B8-49FA-BE5D-620757D8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F85F56-274E-4ADF-B172-3661058D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1FCD05-04FE-44A7-B2B1-BBF1F8CC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412F98-DC26-473D-A91C-777C6106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2520DC-882B-4737-B89C-B4B66653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DA45A-B1E4-45DF-81E3-E238CE804E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439E1C-4AF7-4686-82B7-29C8239D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DF6648-0CB1-44A4-BB1D-AF2D8743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52276D-6D69-4DD9-A9C5-D1CFDBF1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0CE88F-E2F5-4914-9D8F-3D69C560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DECA2F-5484-4A48-88B7-44F816E8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4E7264-EA65-404A-A484-E84A6218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0A83B6-2C52-49A0-9C19-E07F010B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7FF5FB-74C8-477A-A050-BB0CA07E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83ADF8-8D79-4802-8749-3AB2D6C6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394E0F-5C30-47A5-A0E4-5BF19B08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375A5-0B97-4245-8D61-BC03B4C7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8532A1-C952-435C-8375-7BCFB12D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C0736F-33A2-4C48-80AA-0630609E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3AB2D2-C8CE-4888-A78A-03A547CB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83BA9-21BC-4439-8D3E-315E7558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A3970-9D5B-4A0E-ADCF-B5F29B08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71262-DD05-41EE-8349-391DF273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BA366-41B5-4D71-A09B-ADD9F97A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758A4-9348-488D-A13A-EB17811F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068A1-BBD1-49EF-B025-D76408A0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8057A-99CA-428E-8808-63B16546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35FCA-855F-472C-826A-E1007880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A93CB-A9C1-4CE8-8D7C-D65AD7E3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3F30E-C07F-4037-BB70-86C88516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FF4BD-BC21-4A31-AD5F-D14BD0DD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B5AC9-586F-4F25-AD9B-8E3058AF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175F4-3F4B-4386-82D2-BBE34EA7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D01F2-77A2-400E-81C7-C52F1050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903CE-4F2F-4790-A8E4-633D9765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969C74-3A6D-4A85-8D66-FAAD5AA4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081D7-931D-4C5B-BBF8-29B227A7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E43D0-94D1-4B77-9004-B9C1E60A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DDB4F6-DF2A-4F61-9D57-135FA48B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377E2-AE16-446E-BA97-CAF2080D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4D553E-2C71-435D-BBCA-B33DC8E0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3D5BD5-3CE0-4DCB-BDF7-49284BE4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C77F05-ADC4-4473-A681-C3BBBE1A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AD88A-9EE5-44C2-BCF8-CB7D5F99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A8A9F2-7063-4CBD-A5E4-AB244F83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41BF8A-D3E4-4128-BB14-3C15F73F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5A7D2A-F526-4B13-B2D6-5935B5DA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AD917F-21AF-44E3-BEFB-C597FECA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6657A-0BF8-4ED4-9434-2E7F0408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03A656-72C9-4A13-AC68-D23528F64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5CEFC1-01D0-4406-AB22-69607273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B881B6-155E-4CDD-870B-F3F4DB26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6C5E4D-2C8C-4AB5-B123-8EFFE0B6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0732B0-6901-4BA2-A121-9A664891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9B1C9E-14AF-4011-85FD-B08ABA85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7FF537-CF63-430A-88FA-A03D7156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97A71-20B9-43A9-B793-0DC04AB3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120AE8-D7EB-4D96-AF01-13B0FDB18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0C3892-9B21-4BD0-A041-BBF0231F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85E20-19C9-409F-9635-0B249E8C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482660-988C-41EE-A8DA-0778B3D5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51638A-CEE0-4203-8684-E93F10BC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A3F49F-AF1A-4C70-91F2-1E976E3A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3BC70-4482-42EF-A37F-1B2D56B3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57BCA-65F2-41CA-96F0-99109249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7B5C5-F172-4CF9-A0AB-50CA1F1D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7F824-BE86-4EA5-880D-B69BF1D7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681388-CF6D-4F12-8739-CD9569D7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5F73E-1C1A-4D47-89E4-A8879E65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2C9295-6F3E-4688-ACA8-27623BB52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ADFF-252F-4AA0-8F72-F91B10C5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A5E3CE-DE66-4F71-AD38-50E151C4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7AD65B-088B-4627-9502-8D837FC2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72A525-C9F7-4274-9948-8A97896A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6240CD-B4A4-4264-9489-E0638499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ACE1D2-0F84-44CC-B76F-031EFD71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F4567-918D-4C66-B03A-032E42BD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C0A86-7768-4F8C-8C77-5BB7FC69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F5FDD7-24F2-4FBB-BA3D-AE6BA191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44B19E-5E63-41A5-8444-B9A3D190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8FDF9D-E1CC-4A25-8BF5-86B5597E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8EE18-C9C7-42EB-86D6-9EE09D1C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ACACF9-7686-4999-9414-500498BA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83AF0D-73F0-48A2-AB5B-B91237C6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B2943-BBC8-4183-9200-BC02C379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C22107-A19E-4EBF-A964-CE6F390E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3F7030-06D2-4979-BCEB-8E4EBBB3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454797-1AEF-4F7D-930B-A092AE1C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9502BF-01E0-4EEB-AA9A-879C3816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0B9314-503A-4F4F-AC9A-3BCE6136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D8A040-0A22-44EA-BA5B-B40A3446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FD54F5-C178-4786-B3DC-4D80924F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E9B47-1FBA-4A39-B84E-346F3722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7F423-7168-42F1-A087-17A6F55D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6B81F1-5933-4CF2-B7C5-77E42C3C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A2BC90-991E-4460-AF95-73AB4CBE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8DE1F3-ADD1-4B3B-A54D-F38DBE5E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729C1A-C22F-4CB1-A784-57F68981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2EBE70-A0B3-485B-888C-9BF44C07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BCAD29-3C5A-46C1-8E70-61A9CD40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9D8DE3-73D3-4050-A5E5-CB162B86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599136-8ED3-40C2-9B4D-AC45DA60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E68A54-5618-4B1C-8446-5F656FD3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ADF97-6C7F-4ED0-AA7E-F1EEBF69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9DCA8F-5548-4563-9F67-C878AC5B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AD85A8-359C-435B-9033-71408744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D80DC4-E2A5-4DBE-B1D7-681E85CD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724344-EF46-46DB-BEBF-3E5044FB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5C48CA-A659-4510-AEFF-CE532DBA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FB266A-7B71-4DFE-B812-D336A0FA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361F87-854A-489B-B8E4-91043548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4C5085-A428-4B19-9687-F77511AD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21A854-7E9E-41FF-9BA1-B9A95F7B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68510B-CD98-42E7-9DBC-2680F1B5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A108-36E3-4A60-A962-98340E470160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28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1DD6-54C6-4A67-847E-CA5020C0CDAC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ftr" idx="31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26E4-383B-4854-B737-05664FD0D808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ftr" idx="4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5454-B908-4BE0-9ED7-97DC1F190937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ftr" idx="7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084F-57B9-4DE3-8470-E42AF52A7737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10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7CE5-DEAF-4A9A-955A-32A0B8865E80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3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0D12-FA17-4437-A4BD-0DE763A84519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ftr" idx="16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1D08-9828-4BEA-85BA-117F514D29E4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19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7BB7-0729-4B98-95F8-B017AD505718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14"/>
          <p:cNvSpPr/>
          <p:nvPr/>
        </p:nvSpPr>
        <p:spPr>
          <a:xfrm>
            <a:off x="88920" y="549360"/>
            <a:ext cx="8947080" cy="934920"/>
          </a:xfrm>
          <a:prstGeom prst="rect">
            <a:avLst/>
          </a:prstGeom>
          <a:solidFill>
            <a:srgbClr val="ff5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1" descr=""/>
          <p:cNvPicPr/>
          <p:nvPr/>
        </p:nvPicPr>
        <p:blipFill>
          <a:blip r:embed="rId2"/>
          <a:stretch/>
        </p:blipFill>
        <p:spPr>
          <a:xfrm>
            <a:off x="7667640" y="44280"/>
            <a:ext cx="1301760" cy="2779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ftr" idx="22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EDAA-C00E-4C5C-B2FD-A2850EA4730F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直接连接符​​ 6"/>
          <p:cNvSpPr/>
          <p:nvPr/>
        </p:nvSpPr>
        <p:spPr>
          <a:xfrm>
            <a:off x="0" y="404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12"/>
          <p:cNvSpPr/>
          <p:nvPr/>
        </p:nvSpPr>
        <p:spPr>
          <a:xfrm>
            <a:off x="4161600" y="6464160"/>
            <a:ext cx="8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Fengkaixi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十字星 1027"/>
          <p:cNvSpPr/>
          <p:nvPr/>
        </p:nvSpPr>
        <p:spPr>
          <a:xfrm>
            <a:off x="112680" y="658656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十字星 40"/>
          <p:cNvSpPr/>
          <p:nvPr/>
        </p:nvSpPr>
        <p:spPr>
          <a:xfrm>
            <a:off x="8955000" y="6607080"/>
            <a:ext cx="66600" cy="61920"/>
          </a:xfrm>
          <a:custGeom>
            <a:avLst/>
            <a:gdLst>
              <a:gd name="textAreaLeft" fmla="*/ 27360 w 66600"/>
              <a:gd name="textAreaRight" fmla="*/ 39240 w 66600"/>
              <a:gd name="textAreaTop" fmla="*/ 25560 h 61920"/>
              <a:gd name="textAreaBottom" fmla="*/ 36360 h 61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5698"/>
          </a:solidFill>
          <a:ln w="25560">
            <a:solidFill>
              <a:srgbClr val="ff5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5"/>
          </p:nvPr>
        </p:nvSpPr>
        <p:spPr>
          <a:xfrm>
            <a:off x="3124080" y="544464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38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7D7A-5E77-41B3-92CD-AB08893BEDEB}" type="slidenum">
              <a:rPr b="0" lang="zh-CN" sz="1200" spc="-1" strike="noStrike">
                <a:solidFill>
                  <a:srgbClr val="ff38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4"/>
          <p:cNvSpPr/>
          <p:nvPr/>
        </p:nvSpPr>
        <p:spPr>
          <a:xfrm>
            <a:off x="179280" y="5013360"/>
            <a:ext cx="8837640" cy="1295280"/>
          </a:xfrm>
          <a:prstGeom prst="rect">
            <a:avLst/>
          </a:prstGeom>
          <a:solidFill>
            <a:srgbClr val="ff5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 rot="1248600">
            <a:off x="1623600" y="50760"/>
            <a:ext cx="5694480" cy="47181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" descr=""/>
          <p:cNvPicPr/>
          <p:nvPr/>
        </p:nvPicPr>
        <p:blipFill>
          <a:blip r:embed="rId2"/>
          <a:stretch/>
        </p:blipFill>
        <p:spPr>
          <a:xfrm>
            <a:off x="6175440" y="3645000"/>
            <a:ext cx="2789280" cy="11523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"/>
          <p:cNvPicPr/>
          <p:nvPr/>
        </p:nvPicPr>
        <p:blipFill>
          <a:blip r:embed="rId3"/>
          <a:stretch/>
        </p:blipFill>
        <p:spPr>
          <a:xfrm>
            <a:off x="127080" y="3645000"/>
            <a:ext cx="2573280" cy="1179360"/>
          </a:xfrm>
          <a:prstGeom prst="rect">
            <a:avLst/>
          </a:prstGeom>
          <a:ln w="0">
            <a:noFill/>
          </a:ln>
        </p:spPr>
      </p:pic>
      <p:sp>
        <p:nvSpPr>
          <p:cNvPr id="542" name="TextBox 6"/>
          <p:cNvSpPr/>
          <p:nvPr/>
        </p:nvSpPr>
        <p:spPr>
          <a:xfrm>
            <a:off x="395280" y="5229360"/>
            <a:ext cx="812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述职报告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矩形 24"/>
          <p:cNvSpPr/>
          <p:nvPr/>
        </p:nvSpPr>
        <p:spPr>
          <a:xfrm>
            <a:off x="3166920" y="4638600"/>
            <a:ext cx="2810160" cy="16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矩形 25"/>
          <p:cNvSpPr/>
          <p:nvPr/>
        </p:nvSpPr>
        <p:spPr>
          <a:xfrm>
            <a:off x="6156360" y="4638600"/>
            <a:ext cx="2808360" cy="16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矩形 2"/>
          <p:cNvSpPr/>
          <p:nvPr/>
        </p:nvSpPr>
        <p:spPr>
          <a:xfrm>
            <a:off x="179280" y="4638600"/>
            <a:ext cx="2808360" cy="167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14" descr="C:\Documents and Settings\Administrator\桌面\锐\2012年新年素材\龙4\6090.jpg"/>
          <p:cNvPicPr/>
          <p:nvPr/>
        </p:nvPicPr>
        <p:blipFill>
          <a:blip r:embed="rId1"/>
          <a:stretch/>
        </p:blipFill>
        <p:spPr>
          <a:xfrm>
            <a:off x="6300720" y="4724280"/>
            <a:ext cx="2519280" cy="15271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5" descr=""/>
          <p:cNvPicPr/>
          <p:nvPr/>
        </p:nvPicPr>
        <p:blipFill>
          <a:blip r:embed="rId2"/>
          <a:stretch/>
        </p:blipFill>
        <p:spPr>
          <a:xfrm>
            <a:off x="2664000" y="3429000"/>
            <a:ext cx="3995640" cy="3672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"/>
          <p:cNvPicPr/>
          <p:nvPr/>
        </p:nvPicPr>
        <p:blipFill>
          <a:blip r:embed="rId3"/>
          <a:stretch/>
        </p:blipFill>
        <p:spPr>
          <a:xfrm>
            <a:off x="250920" y="4840200"/>
            <a:ext cx="2665440" cy="1160640"/>
          </a:xfrm>
          <a:prstGeom prst="rect">
            <a:avLst/>
          </a:prstGeom>
          <a:ln w="0">
            <a:noFill/>
          </a:ln>
        </p:spPr>
      </p:pic>
      <p:sp>
        <p:nvSpPr>
          <p:cNvPr id="602" name="矩形 28"/>
          <p:cNvSpPr/>
          <p:nvPr/>
        </p:nvSpPr>
        <p:spPr>
          <a:xfrm>
            <a:off x="88920" y="549360"/>
            <a:ext cx="8947080" cy="3671640"/>
          </a:xfrm>
          <a:prstGeom prst="rect">
            <a:avLst/>
          </a:prstGeom>
          <a:solidFill>
            <a:srgbClr val="ff5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矩形 29"/>
          <p:cNvSpPr/>
          <p:nvPr/>
        </p:nvSpPr>
        <p:spPr>
          <a:xfrm>
            <a:off x="971640" y="214956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,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飞龙崛起 再创佳绩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1"/>
          <p:cNvSpPr/>
          <p:nvPr/>
        </p:nvSpPr>
        <p:spPr>
          <a:xfrm>
            <a:off x="250920" y="54936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图示 3" descr=""/>
          <p:cNvPicPr/>
          <p:nvPr/>
        </p:nvPicPr>
        <p:blipFill>
          <a:blip r:embed="rId1"/>
          <a:stretch/>
        </p:blipFill>
        <p:spPr>
          <a:xfrm>
            <a:off x="1316160" y="1835280"/>
            <a:ext cx="61578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图示 3" descr=""/>
          <p:cNvPicPr/>
          <p:nvPr/>
        </p:nvPicPr>
        <p:blipFill>
          <a:blip r:embed="rId1"/>
          <a:stretch/>
        </p:blipFill>
        <p:spPr>
          <a:xfrm>
            <a:off x="1427040" y="2048040"/>
            <a:ext cx="5424480" cy="3127320"/>
          </a:xfrm>
          <a:prstGeom prst="rect">
            <a:avLst/>
          </a:prstGeom>
          <a:ln w="0">
            <a:noFill/>
          </a:ln>
        </p:spPr>
      </p:pic>
      <p:grpSp>
        <p:nvGrpSpPr>
          <p:cNvPr id="547" name="组合 1"/>
          <p:cNvGrpSpPr/>
          <p:nvPr/>
        </p:nvGrpSpPr>
        <p:grpSpPr>
          <a:xfrm>
            <a:off x="179280" y="633240"/>
            <a:ext cx="1219320" cy="756000"/>
            <a:chOff x="179280" y="633240"/>
            <a:chExt cx="1219320" cy="756000"/>
          </a:xfrm>
        </p:grpSpPr>
        <p:sp>
          <p:nvSpPr>
            <p:cNvPr id="548" name="圆角矩形 5"/>
            <p:cNvSpPr/>
            <p:nvPr/>
          </p:nvSpPr>
          <p:spPr>
            <a:xfrm>
              <a:off x="193680" y="644400"/>
              <a:ext cx="1195560" cy="7322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9" name="圆角矩形 4"/>
            <p:cNvGrpSpPr/>
            <p:nvPr/>
          </p:nvGrpSpPr>
          <p:grpSpPr>
            <a:xfrm>
              <a:off x="179280" y="633240"/>
              <a:ext cx="1219320" cy="756000"/>
              <a:chOff x="179280" y="633240"/>
              <a:chExt cx="1219320" cy="756000"/>
            </a:xfrm>
          </p:grpSpPr>
          <p:pic>
            <p:nvPicPr>
              <p:cNvPr id="550" name="圆角矩形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280" y="633240"/>
                <a:ext cx="121932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"/>
              <p:cNvSpPr/>
              <p:nvPr/>
            </p:nvSpPr>
            <p:spPr>
              <a:xfrm>
                <a:off x="215280" y="665640"/>
                <a:ext cx="115200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"/>
          <p:cNvGrpSpPr/>
          <p:nvPr/>
        </p:nvGrpSpPr>
        <p:grpSpPr>
          <a:xfrm>
            <a:off x="108000" y="1542960"/>
            <a:ext cx="1942920" cy="517680"/>
            <a:chOff x="108000" y="1542960"/>
            <a:chExt cx="1942920" cy="517680"/>
          </a:xfrm>
        </p:grpSpPr>
        <p:sp>
          <p:nvSpPr>
            <p:cNvPr id="553" name="矩形 5"/>
            <p:cNvSpPr/>
            <p:nvPr/>
          </p:nvSpPr>
          <p:spPr>
            <a:xfrm>
              <a:off x="108000" y="1542960"/>
              <a:ext cx="1942920" cy="517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矩形 6"/>
            <p:cNvSpPr/>
            <p:nvPr/>
          </p:nvSpPr>
          <p:spPr>
            <a:xfrm>
              <a:off x="108000" y="1542960"/>
              <a:ext cx="1942920" cy="517680"/>
            </a:xfrm>
            <a:prstGeom prst="rect">
              <a:avLst/>
            </a:prstGeom>
            <a:noFill/>
            <a:ln w="93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3240" anchor="ctr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Ⅰ 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人员现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5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6" name="组合 12"/>
          <p:cNvGrpSpPr/>
          <p:nvPr/>
        </p:nvGrpSpPr>
        <p:grpSpPr>
          <a:xfrm>
            <a:off x="179280" y="633240"/>
            <a:ext cx="1219320" cy="756000"/>
            <a:chOff x="179280" y="633240"/>
            <a:chExt cx="1219320" cy="756000"/>
          </a:xfrm>
        </p:grpSpPr>
        <p:sp>
          <p:nvSpPr>
            <p:cNvPr id="557" name="圆角矩形 13"/>
            <p:cNvSpPr/>
            <p:nvPr/>
          </p:nvSpPr>
          <p:spPr>
            <a:xfrm>
              <a:off x="193680" y="644400"/>
              <a:ext cx="1195560" cy="7322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58" name="圆角矩形 14"/>
            <p:cNvGrpSpPr/>
            <p:nvPr/>
          </p:nvGrpSpPr>
          <p:grpSpPr>
            <a:xfrm>
              <a:off x="179280" y="633240"/>
              <a:ext cx="1219320" cy="756000"/>
              <a:chOff x="179280" y="633240"/>
              <a:chExt cx="1219320" cy="756000"/>
            </a:xfrm>
          </p:grpSpPr>
          <p:pic>
            <p:nvPicPr>
              <p:cNvPr id="559" name="圆角矩形 14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33240"/>
                <a:ext cx="121932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>
                <a:off x="215280" y="665640"/>
                <a:ext cx="115200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组合 2"/>
          <p:cNvGrpSpPr/>
          <p:nvPr/>
        </p:nvGrpSpPr>
        <p:grpSpPr>
          <a:xfrm>
            <a:off x="108000" y="1542960"/>
            <a:ext cx="1800000" cy="517680"/>
            <a:chOff x="108000" y="1542960"/>
            <a:chExt cx="1800000" cy="517680"/>
          </a:xfrm>
        </p:grpSpPr>
        <p:sp>
          <p:nvSpPr>
            <p:cNvPr id="562" name="矩形 3"/>
            <p:cNvSpPr/>
            <p:nvPr/>
          </p:nvSpPr>
          <p:spPr>
            <a:xfrm>
              <a:off x="108000" y="1542960"/>
              <a:ext cx="1800000" cy="517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矩形 4"/>
            <p:cNvSpPr/>
            <p:nvPr/>
          </p:nvSpPr>
          <p:spPr>
            <a:xfrm>
              <a:off x="108000" y="1542960"/>
              <a:ext cx="1800000" cy="517680"/>
            </a:xfrm>
            <a:prstGeom prst="rect">
              <a:avLst/>
            </a:prstGeom>
            <a:noFill/>
            <a:ln w="93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3240" anchor="ctr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Ⅱ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工作效能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4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组合 10"/>
          <p:cNvGrpSpPr/>
          <p:nvPr/>
        </p:nvGrpSpPr>
        <p:grpSpPr>
          <a:xfrm>
            <a:off x="179280" y="633240"/>
            <a:ext cx="1219320" cy="756000"/>
            <a:chOff x="179280" y="633240"/>
            <a:chExt cx="1219320" cy="756000"/>
          </a:xfrm>
        </p:grpSpPr>
        <p:sp>
          <p:nvSpPr>
            <p:cNvPr id="566" name="圆角矩形 11"/>
            <p:cNvSpPr/>
            <p:nvPr/>
          </p:nvSpPr>
          <p:spPr>
            <a:xfrm>
              <a:off x="193680" y="644400"/>
              <a:ext cx="1195560" cy="7322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7" name="圆角矩形 12"/>
            <p:cNvGrpSpPr/>
            <p:nvPr/>
          </p:nvGrpSpPr>
          <p:grpSpPr>
            <a:xfrm>
              <a:off x="179280" y="633240"/>
              <a:ext cx="1219320" cy="756000"/>
              <a:chOff x="179280" y="633240"/>
              <a:chExt cx="1219320" cy="756000"/>
            </a:xfrm>
          </p:grpSpPr>
          <p:pic>
            <p:nvPicPr>
              <p:cNvPr id="568" name="圆角矩形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33240"/>
                <a:ext cx="1219320" cy="756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9" name=""/>
              <p:cNvSpPr/>
              <p:nvPr/>
            </p:nvSpPr>
            <p:spPr>
              <a:xfrm>
                <a:off x="215280" y="665640"/>
                <a:ext cx="115200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组合 1"/>
          <p:cNvGrpSpPr/>
          <p:nvPr/>
        </p:nvGrpSpPr>
        <p:grpSpPr>
          <a:xfrm>
            <a:off x="108000" y="1542960"/>
            <a:ext cx="3095640" cy="517680"/>
            <a:chOff x="108000" y="1542960"/>
            <a:chExt cx="3095640" cy="517680"/>
          </a:xfrm>
        </p:grpSpPr>
        <p:sp>
          <p:nvSpPr>
            <p:cNvPr id="571" name="矩形 2"/>
            <p:cNvSpPr/>
            <p:nvPr/>
          </p:nvSpPr>
          <p:spPr>
            <a:xfrm>
              <a:off x="108000" y="1542960"/>
              <a:ext cx="3095640" cy="517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矩形 3"/>
            <p:cNvSpPr/>
            <p:nvPr/>
          </p:nvSpPr>
          <p:spPr>
            <a:xfrm>
              <a:off x="108000" y="1542960"/>
              <a:ext cx="3095640" cy="517680"/>
            </a:xfrm>
            <a:prstGeom prst="rect">
              <a:avLst/>
            </a:prstGeom>
            <a:noFill/>
            <a:ln w="9360">
              <a:solidFill>
                <a:srgbClr val="9c00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3240" anchor="ctr">
              <a:no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Ⅲ 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要工作指标达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3" name="TextBox 1"/>
          <p:cNvSpPr/>
          <p:nvPr/>
        </p:nvSpPr>
        <p:spPr>
          <a:xfrm>
            <a:off x="1258920" y="63324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年度履职情况及成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组合 10"/>
          <p:cNvGrpSpPr/>
          <p:nvPr/>
        </p:nvGrpSpPr>
        <p:grpSpPr>
          <a:xfrm>
            <a:off x="179280" y="657360"/>
            <a:ext cx="1219320" cy="755640"/>
            <a:chOff x="179280" y="657360"/>
            <a:chExt cx="1219320" cy="755640"/>
          </a:xfrm>
        </p:grpSpPr>
        <p:sp>
          <p:nvSpPr>
            <p:cNvPr id="575" name="圆角矩形 11"/>
            <p:cNvSpPr/>
            <p:nvPr/>
          </p:nvSpPr>
          <p:spPr>
            <a:xfrm>
              <a:off x="193680" y="667800"/>
              <a:ext cx="1195560" cy="73188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38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6" name="圆角矩形 12"/>
            <p:cNvGrpSpPr/>
            <p:nvPr/>
          </p:nvGrpSpPr>
          <p:grpSpPr>
            <a:xfrm>
              <a:off x="179280" y="657360"/>
              <a:ext cx="1219320" cy="755640"/>
              <a:chOff x="179280" y="657360"/>
              <a:chExt cx="1219320" cy="755640"/>
            </a:xfrm>
          </p:grpSpPr>
          <p:pic>
            <p:nvPicPr>
              <p:cNvPr id="577" name="圆角矩形 12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57360"/>
                <a:ext cx="12193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8" name=""/>
              <p:cNvSpPr/>
              <p:nvPr/>
            </p:nvSpPr>
            <p:spPr>
              <a:xfrm>
                <a:off x="215280" y="689400"/>
                <a:ext cx="115200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1"/>
          <p:cNvSpPr/>
          <p:nvPr/>
        </p:nvSpPr>
        <p:spPr>
          <a:xfrm>
            <a:off x="1403280" y="6332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力态度自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0" name="圆角矩形 3"/>
          <p:cNvGrpSpPr/>
          <p:nvPr/>
        </p:nvGrpSpPr>
        <p:grpSpPr>
          <a:xfrm>
            <a:off x="165240" y="609480"/>
            <a:ext cx="1242720" cy="781200"/>
            <a:chOff x="165240" y="609480"/>
            <a:chExt cx="1242720" cy="781200"/>
          </a:xfrm>
        </p:grpSpPr>
        <p:pic>
          <p:nvPicPr>
            <p:cNvPr id="581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65240" y="609480"/>
              <a:ext cx="124272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>
              <a:off x="201600" y="642960"/>
              <a:ext cx="11746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1"/>
          <p:cNvSpPr/>
          <p:nvPr/>
        </p:nvSpPr>
        <p:spPr>
          <a:xfrm>
            <a:off x="1403280" y="62064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的主要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4" name="组合 1"/>
          <p:cNvGrpSpPr/>
          <p:nvPr/>
        </p:nvGrpSpPr>
        <p:grpSpPr>
          <a:xfrm>
            <a:off x="179280" y="620640"/>
            <a:ext cx="1219320" cy="755640"/>
            <a:chOff x="179280" y="620640"/>
            <a:chExt cx="1219320" cy="755640"/>
          </a:xfrm>
        </p:grpSpPr>
        <p:sp>
          <p:nvSpPr>
            <p:cNvPr id="585" name="圆角矩形 3"/>
            <p:cNvSpPr/>
            <p:nvPr/>
          </p:nvSpPr>
          <p:spPr>
            <a:xfrm>
              <a:off x="238680" y="643680"/>
              <a:ext cx="1150560" cy="7088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6" name="圆角矩形 2"/>
            <p:cNvGrpSpPr/>
            <p:nvPr/>
          </p:nvGrpSpPr>
          <p:grpSpPr>
            <a:xfrm>
              <a:off x="179280" y="620640"/>
              <a:ext cx="1219320" cy="755640"/>
              <a:chOff x="179280" y="620640"/>
              <a:chExt cx="1219320" cy="755640"/>
            </a:xfrm>
          </p:grpSpPr>
          <p:pic>
            <p:nvPicPr>
              <p:cNvPr id="587" name="圆角矩形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20640"/>
                <a:ext cx="12193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"/>
              <p:cNvSpPr/>
              <p:nvPr/>
            </p:nvSpPr>
            <p:spPr>
              <a:xfrm>
                <a:off x="215280" y="652680"/>
                <a:ext cx="115200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6"/>
          <p:cNvGrpSpPr/>
          <p:nvPr/>
        </p:nvGrpSpPr>
        <p:grpSpPr>
          <a:xfrm>
            <a:off x="179280" y="620640"/>
            <a:ext cx="1219320" cy="770040"/>
            <a:chOff x="179280" y="620640"/>
            <a:chExt cx="1219320" cy="770040"/>
          </a:xfrm>
        </p:grpSpPr>
        <p:sp>
          <p:nvSpPr>
            <p:cNvPr id="590" name="圆角矩形 2"/>
            <p:cNvSpPr/>
            <p:nvPr/>
          </p:nvSpPr>
          <p:spPr>
            <a:xfrm>
              <a:off x="193680" y="620640"/>
              <a:ext cx="1195560" cy="744840"/>
            </a:xfrm>
            <a:prstGeom prst="roundRect">
              <a:avLst>
                <a:gd name="adj" fmla="val 10000"/>
              </a:avLst>
            </a:prstGeom>
            <a:solidFill>
              <a:srgbClr val="ffffff"/>
            </a:solidFill>
            <a:ln w="25560">
              <a:solidFill>
                <a:srgbClr val="e732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1" name="圆角矩形 1"/>
            <p:cNvGrpSpPr/>
            <p:nvPr/>
          </p:nvGrpSpPr>
          <p:grpSpPr>
            <a:xfrm>
              <a:off x="179280" y="621360"/>
              <a:ext cx="1219320" cy="769320"/>
              <a:chOff x="179280" y="621360"/>
              <a:chExt cx="1219320" cy="769320"/>
            </a:xfrm>
          </p:grpSpPr>
          <p:pic>
            <p:nvPicPr>
              <p:cNvPr id="592" name="圆角矩形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621360"/>
                <a:ext cx="1219320" cy="76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3" name=""/>
              <p:cNvSpPr/>
              <p:nvPr/>
            </p:nvSpPr>
            <p:spPr>
              <a:xfrm>
                <a:off x="215280" y="655560"/>
                <a:ext cx="11520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4" name="矩形 3"/>
          <p:cNvSpPr/>
          <p:nvPr/>
        </p:nvSpPr>
        <p:spPr>
          <a:xfrm>
            <a:off x="1403280" y="62064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-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后续工作设想及改善计划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1"/>
          <p:cNvSpPr/>
          <p:nvPr/>
        </p:nvSpPr>
        <p:spPr>
          <a:xfrm>
            <a:off x="1424160" y="2421000"/>
            <a:ext cx="57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的主要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3:33:56Z</dcterms:created>
  <dc:creator>冯凯欣</dc:creator>
  <dc:description/>
  <dc:language>en-US</dc:language>
  <cp:lastModifiedBy>www.pc6.com</cp:lastModifiedBy>
  <dcterms:modified xsi:type="dcterms:W3CDTF">2012-02-16T03:58:11Z</dcterms:modified>
  <cp:revision>67</cp:revision>
  <dc:subject/>
  <dc:title>PowerPoint 演示文稿</dc:title>
</cp:coreProperties>
</file>